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6.wmf" ContentType="image/x-wmf"/>
  <Override PartName="/ppt/media/image29.wmf" ContentType="image/x-wmf"/>
  <Override PartName="/ppt/media/image19.jpeg" ContentType="image/jpeg"/>
  <Override PartName="/ppt/media/image2.gif" ContentType="image/gif"/>
  <Override PartName="/ppt/media/image13.wmf" ContentType="image/x-wmf"/>
  <Override PartName="/ppt/media/image20.jpeg" ContentType="image/jpeg"/>
  <Override PartName="/ppt/media/image7.wmf" ContentType="image/x-wmf"/>
  <Override PartName="/ppt/media/image11.jpeg" ContentType="image/jpeg"/>
  <Override PartName="/ppt/media/image28.jpeg" ContentType="image/jpeg"/>
  <Override PartName="/ppt/media/image23.wmf" ContentType="image/x-wmf"/>
  <Override PartName="/ppt/media/image12.wmf" ContentType="image/x-wmf"/>
  <Override PartName="/ppt/media/image4.jpeg" ContentType="image/jpeg"/>
  <Override PartName="/ppt/media/image8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3.jpeg" ContentType="image/jpeg"/>
  <Override PartName="/ppt/media/image1.wmf" ContentType="image/x-wmf"/>
  <Override PartName="/ppt/media/image24.wmf" ContentType="image/x-wmf"/>
  <Override PartName="/ppt/media/image14.wmf" ContentType="image/x-wmf"/>
  <Override PartName="/ppt/media/image26.wmf" ContentType="image/x-wmf"/>
  <Override PartName="/ppt/media/image16.wmf" ContentType="image/x-wmf"/>
  <Override PartName="/ppt/media/image17.wmf" ContentType="image/x-wmf"/>
  <Override PartName="/ppt/media/image18.jpeg" ContentType="image/jpeg"/>
  <Override PartName="/ppt/media/image21.jpeg" ContentType="image/jpeg"/>
  <Override PartName="/ppt/media/image22.jpeg" ContentType="image/jpeg"/>
  <Override PartName="/ppt/media/image15.jpeg" ContentType="image/jpeg"/>
  <Override PartName="/ppt/media/image25.wmf" ContentType="image/x-wmf"/>
  <Override PartName="/ppt/media/image2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2698-5921-4D0F-B4AC-C92602EE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D0E-E62D-4028-A421-362C6670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1EC3-0874-4159-A48E-44E3EBB24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37B6-8B4F-4F1E-93AC-44B716FF4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DDBB-8E47-482E-A60A-3DED9FB14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22A4-F414-40B1-8FA8-DD16BB3ED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4B544-7FED-4290-A69F-8A007330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65ED-1F32-4DDB-BB3D-0A4ABE49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022ED-CC57-4A76-B254-4A190460D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15C0D-F825-483F-A9EA-0A7659AF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38EC-FAEC-4F64-A025-A61889B5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53EA-EC72-48F3-A23B-A400B1E03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EFC7-B000-4268-9CB2-17591C27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A7CC-261D-4E56-9FA6-E5383FD4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89DA1-FF05-484C-8B41-937B571B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CF23D-F40C-413A-962B-6705BFB1A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E29FE-3ACC-45DF-AC0C-4C74A3966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4155-71C2-43AE-BE2E-0F994C1A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3FC5-4E44-4BC9-9723-E7B737E5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EAB2-97E8-4A2F-A284-0CF4F8CF9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22D0-404B-4DC7-9041-0CB10BD65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6F8E-7C4E-4EC7-A738-3095262F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ACCD-CB17-4AFA-8FE9-EC8CB167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22D2-CE45-486F-92DE-CEB3DF7C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81C3-A3C6-4C01-82D5-E30ADC51A4D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4B639-1BEB-4E4B-ADBA-BD1F0153273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é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nd your knees. (vous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iez les genou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429000" y="274320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ise your right hand. (tu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ève la main droi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535200" y="2514600"/>
            <a:ext cx="1727280" cy="2286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ut your hands on your head. (vous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tez les mains sur la tê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505320" y="2590920"/>
            <a:ext cx="2119320" cy="31255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Quelle partie du corps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voit ave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yeu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mange avec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bou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 la main et l’épaule es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tre la tête et le corps es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c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uche avec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doig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ntend avec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oreil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s la bouche son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d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ets les chaussures sur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pi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2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7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respire avec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en a d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doig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 milieu de la jambe est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gen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4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4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9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nissez la phrase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el a trop mangé. Il a mal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 ventre/à l’estom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e a couru dix kilomètres. Elle a m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x jambes/pi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fait de l’escalade. J’ai m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x mains/doig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 y a trop de bruit pour Pascal. Il a m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À la tê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Vrai ou Faux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 on fait de l’exercice, ça indique qu’on est mal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on est fatigué, on ne se sent pas bi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on a mal aux dents, on va chez le denti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Coupe du Monde, c’est le championnat du bask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vert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8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8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3" dur="500"/>
                                        <p:tgtEl>
                                          <p:spTgt spid="1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’m tired and I have a stomach ach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uis fatigué(e) et j’ai mal au ven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48120" y="2590920"/>
            <a:ext cx="3035160" cy="2768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0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aise your left leg. (vous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vez la jambe gauch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90920" y="3048120"/>
            <a:ext cx="3902040" cy="3120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 bik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fais du vé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95480" y="2567160"/>
            <a:ext cx="2594160" cy="2435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 do not feel well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ne me sens pas 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495600" cy="34351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4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’m not going ther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n’y vais p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3810240" cy="4330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n the morning, I wash my fac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matin, je me lave la fig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522468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I brush my teeth with toothpaste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me brosse les dents avec du dentifr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057400" y="2590920"/>
            <a:ext cx="5038560" cy="3268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y sisters get up at 7h00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s soeurs se lèvent à 7h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427720" cy="3530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ophie puts on makeup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phie se maqui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700520" y="1143000"/>
            <a:ext cx="378324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When we are tired, we relax in front of the TV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nd nous sommes fatigués, nous nous reposons devant la tél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905120" y="2666880"/>
            <a:ext cx="5146560" cy="4017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6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lax! (Tu)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se-to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24080" y="2514600"/>
            <a:ext cx="3606840" cy="3645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3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take a walk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omenons-no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3892320" cy="3409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ash your hair! (vous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vez-vous les cheveux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7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o you run? (tu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 c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-ce que tu cou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rs-t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800600" y="2666880"/>
            <a:ext cx="2455920" cy="3614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rush your teeth with some toothpaste. (vou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ssez-vous les dents avec du dentifr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362320" y="2895480"/>
            <a:ext cx="4662360" cy="33433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shave with a razor.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sons avec un raso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3811680" cy="3298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e quiet! (Tu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s-to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3505320" y="2666880"/>
            <a:ext cx="3584520" cy="35816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urry! (Vous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é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êchez-vo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438280" y="2971800"/>
            <a:ext cx="4672080" cy="3103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et’s dress nicely/well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illons-nous 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971800" y="2590920"/>
            <a:ext cx="3170160" cy="3119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occer is the favorite sport of young French people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foot est le sport favori des jeunes Franç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733920" y="2971800"/>
            <a:ext cx="2081160" cy="31212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r Montagne does mountain-biking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Montagne fait du VT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514600" y="2666880"/>
            <a:ext cx="4343400" cy="2894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Are you athletic? (tu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 es sportif? (sporti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-tu sporti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-ce que tu es sporti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00800" y="3657600"/>
            <a:ext cx="1706400" cy="1824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81280" y="4343400"/>
            <a:ext cx="1781280" cy="1060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914400" y="3962520"/>
            <a:ext cx="1569960" cy="1730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’s wrong? (tu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’est-ce que tu 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657600" y="2971800"/>
            <a:ext cx="1832040" cy="17654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y stomach hurts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mal au ven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mal à l’estoma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657600" y="3505320"/>
            <a:ext cx="1739880" cy="18381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he has the flu.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e a la grip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657600" y="3124080"/>
            <a:ext cx="2658960" cy="1849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4:30:10Z</dcterms:created>
  <dc:creator>pnosbusch</dc:creator>
  <dc:description/>
  <dc:language>en-US</dc:language>
  <cp:lastModifiedBy>nbarthenheier</cp:lastModifiedBy>
  <dcterms:modified xsi:type="dcterms:W3CDTF">2008-04-17T18:02:15Z</dcterms:modified>
  <cp:revision>33</cp:revision>
  <dc:subject/>
  <dc:title>Unité 5</dc:title>
</cp:coreProperties>
</file>